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36371"/>
        <c:axId val="44154661"/>
      </c:barChart>
      <c:catAx>
        <c:axId val="58336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54661"/>
        <c:crosses val="autoZero"/>
        <c:auto val="1"/>
        <c:lblAlgn val="ctr"/>
        <c:lblOffset val="100"/>
        <c:noMultiLvlLbl val="0"/>
      </c:catAx>
      <c:valAx>
        <c:axId val="44154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36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784-D769-4EE8-8042-CF25C359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B6F-7203-4809-BB08-103CA3D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A22-60A3-4CEB-BC13-CFC65641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377-D6E6-40EF-9375-FBEA48C1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889-6850-4BE7-A0A3-38CB355B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1C-9D6D-49F6-9CCF-0A7D06E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E7E-B73A-4424-9E45-22993963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EDA-F739-4880-8A54-B6A14A0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4CC-522E-466E-AACB-401BB1EE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F15-6BB2-4305-9781-6EBD499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012-DC21-4BC8-AD63-D855EC5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A5B-D74C-4A04-84B4-9561AAD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74D23-5431-44A3-A974-6814B915F1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