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25720"/>
        <c:axId val="47883130"/>
      </c:barChart>
      <c:catAx>
        <c:axId val="48125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83130"/>
        <c:crosses val="autoZero"/>
        <c:auto val="1"/>
        <c:lblAlgn val="ctr"/>
        <c:lblOffset val="100"/>
        <c:noMultiLvlLbl val="0"/>
      </c:catAx>
      <c:valAx>
        <c:axId val="47883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25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94A-ECAB-4025-9A91-A4D38BE3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39B-5193-43B1-8118-5A0FE5CC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D13-3261-45B2-A29B-AAD1AF6C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AC7-AE7F-42D2-ADDD-D38E954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510-AB10-4B6B-9BE4-B98F167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1B2-8D05-4F7D-83EF-947C99A4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A69-162A-4CF7-BB96-F7B7655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563-527C-438D-A84B-54D6F685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023-6397-4E3D-B526-E62AB759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D73-1442-4BEB-A32F-9EA3AB3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CE9-F681-403C-A235-ECCA159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077-66E3-4D24-A82B-EDA6B295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BE371-09E0-4923-8590-CECE36B97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