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9506"/>
        <c:axId val="52623490"/>
      </c:barChart>
      <c:catAx>
        <c:axId val="6729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23490"/>
        <c:crosses val="autoZero"/>
        <c:auto val="1"/>
        <c:lblAlgn val="ctr"/>
        <c:lblOffset val="100"/>
        <c:noMultiLvlLbl val="0"/>
      </c:catAx>
      <c:valAx>
        <c:axId val="52623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9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9B2-7572-4260-88B0-CF116C8C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0E2-82E3-45F2-9454-FE70732B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121-0522-4B40-AE7D-C03DE3F7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26F-AAB6-4786-B492-278FFA1E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B9A-A8D0-4A17-BB3C-D44A5467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AE8-F1F4-4209-BE3D-1E251344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811-94CA-464B-B929-C9831046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FBF-D168-404E-ABD0-DBD2A306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793-7D45-4515-B43F-FDEC7F0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70E-A087-413B-9DD3-A403B514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F12-FA7B-4491-B0E7-92C2B70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789-F562-4CF7-A259-C71AE44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35EBC-1A81-428E-ADD2-80EDC8A66B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