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10404"/>
        <c:axId val="83600775"/>
      </c:barChart>
      <c:catAx>
        <c:axId val="80410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00775"/>
        <c:crosses val="autoZero"/>
        <c:auto val="1"/>
        <c:lblAlgn val="ctr"/>
        <c:lblOffset val="100"/>
        <c:noMultiLvlLbl val="0"/>
      </c:catAx>
      <c:valAx>
        <c:axId val="83600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10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D12-2E51-40F6-9FEA-939373CC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6A4-8D98-4E94-97C9-3A3357C9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E5A-E7D1-4200-B1F3-6491A9B7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0CF-DDD0-483C-A208-0454D93B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12F-BAEE-4137-AAEA-707BB5B7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793-3B49-44AC-93AC-46FA1C06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2CC-0351-4D9D-9145-5350BDB8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4D4-83F1-4AF8-BC50-ED7222E2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535-EBEE-40FC-8AE0-1277C1BF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5BD-3386-470E-9C5E-6965AA14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937-0243-4046-B4AE-B346EC4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3CB-D0A8-4C85-9D52-C1C73BF2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9E36A-9E21-4FD0-BBCD-4C276540EC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