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28965"/>
        <c:axId val="18630268"/>
      </c:barChart>
      <c:catAx>
        <c:axId val="33128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30268"/>
        <c:crosses val="autoZero"/>
        <c:auto val="1"/>
        <c:lblAlgn val="ctr"/>
        <c:lblOffset val="100"/>
        <c:noMultiLvlLbl val="0"/>
      </c:catAx>
      <c:valAx>
        <c:axId val="18630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28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DA6-7C36-44CA-AB8F-2EC239FC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92E-FFA8-4980-96BA-1507EE42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2A2-2FFF-4C89-98D4-724960D9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57E-AB8C-4204-B557-0CD6DC87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C69-BEF7-420E-A993-9A419FE4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538-2133-46EC-BDAB-325C7F6E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43C-2E57-44E1-958C-89C9299B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C2B-2F23-4116-9456-E63BB7D6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F7F-6ED8-4C35-A411-402F4768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296-7C5D-4C6A-BC45-711F50C6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3D4-1D9C-4119-821E-9388989C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531-63D2-43FB-AE16-E5D0547B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FC733-89D9-4605-BA9B-905DD8A83B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