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18794"/>
        <c:axId val="40664711"/>
      </c:barChart>
      <c:catAx>
        <c:axId val="81518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64711"/>
        <c:crosses val="autoZero"/>
        <c:auto val="1"/>
        <c:lblAlgn val="ctr"/>
        <c:lblOffset val="100"/>
        <c:noMultiLvlLbl val="0"/>
      </c:catAx>
      <c:valAx>
        <c:axId val="40664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18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080-E8F7-4D8A-9815-F4107AB5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20A-D78B-4D07-92A0-72DEDA65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51E-61EB-4A29-B22C-7EC78638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07B-BE09-43B6-9078-685BD710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F5B-FC24-4F63-9E00-EFB5A058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8FB-3EB5-4BB7-BC66-D5D8783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AAC-8202-48D0-9C42-629459F8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805-BD01-46C5-8B4D-9F8037E3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173-9574-47B8-B7CD-5397886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570-F042-4186-A6E9-F0712BB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859-38D1-4D72-A6CA-574FBF6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BAB-13F5-4199-836C-B9B2723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4FD99-EC8A-407B-98C4-9B15AE4BF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