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899003"/>
        <c:axId val="74142952"/>
      </c:barChart>
      <c:catAx>
        <c:axId val="108990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142952"/>
        <c:crosses val="autoZero"/>
        <c:auto val="1"/>
        <c:lblAlgn val="ctr"/>
        <c:lblOffset val="100"/>
        <c:noMultiLvlLbl val="0"/>
      </c:catAx>
      <c:valAx>
        <c:axId val="741429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8990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F8D4-E353-4C93-9E3C-95D0B6676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CF13-AE68-4D44-89B7-E7DA66EF7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1561-6025-4669-8CFA-A0B680A83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9EA8-1E74-4970-9D76-B3558A7F7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C845-3D78-47E7-A53E-49AC7CFC4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24FF-875C-4B87-A966-E04AED7ED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1EAC-9A46-4743-BAD0-D4344C667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BF4D-12AA-40A4-B691-B3C2E0D41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68B8-7D2D-4513-9F65-D3E9D27ED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441B-58FA-4BCE-8A86-33510C660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7A44-DAFF-4207-A066-937EFCAA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481D-7BB7-47DC-B8DC-60DF45D33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D6CCD2-6224-48F3-ACE1-969674AAC69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