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1188"/>
        <c:axId val="71874759"/>
      </c:barChart>
      <c:catAx>
        <c:axId val="4671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74759"/>
        <c:crosses val="autoZero"/>
        <c:auto val="1"/>
        <c:lblAlgn val="ctr"/>
        <c:lblOffset val="100"/>
        <c:noMultiLvlLbl val="0"/>
      </c:catAx>
      <c:valAx>
        <c:axId val="71874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1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203-1A2E-4EA2-986C-85891113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ABF-0E69-4210-A1D4-D3B5D745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951-0895-45D9-8CAB-88792C60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36A-0903-4C4B-BB25-43C31CD5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F7F-A7D1-4B79-8592-53CC2F11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97B-1234-4284-986B-D303386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B1C-814A-4A9B-B33F-97CC99B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AAF-966E-461C-BB71-E71000F5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C09-B7BA-460A-864D-C9486066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21F-A194-4139-AF0B-DED0C2FE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F4A-A633-4FC1-91C3-6CFBD52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593-6120-4E2C-89C5-DADA7497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DE848-56BE-41D4-B827-A300107556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