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81804"/>
        <c:axId val="59997876"/>
      </c:barChart>
      <c:catAx>
        <c:axId val="56581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97876"/>
        <c:crosses val="autoZero"/>
        <c:auto val="1"/>
        <c:lblAlgn val="ctr"/>
        <c:lblOffset val="100"/>
        <c:noMultiLvlLbl val="0"/>
      </c:catAx>
      <c:valAx>
        <c:axId val="59997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81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931-BF78-4445-A0E1-5195BC6B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2E8-64C5-4365-B372-FA4DAE55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05D-B9D5-4C24-8FFA-EA483137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B64-6906-40A3-BCB8-A782600F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539-57E7-44B9-B9F2-26957724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C8C-7AB0-4202-9579-D4E2ECE8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906-6E14-4402-AC12-E50F9D08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67F-EE39-43D8-B041-3C2529BB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B55-7708-4AB3-898C-F1050D97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0A5-570E-4A4A-8DC4-435349A4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E6F-F163-4B38-ADF6-D8E7628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21F-59AF-4F6B-88C7-B054FD8B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BF3E1-5678-4FAA-8645-A92520E59D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