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49720"/>
        <c:axId val="17558474"/>
      </c:barChart>
      <c:catAx>
        <c:axId val="41549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8474"/>
        <c:crosses val="autoZero"/>
        <c:auto val="1"/>
        <c:lblAlgn val="ctr"/>
        <c:lblOffset val="100"/>
        <c:noMultiLvlLbl val="0"/>
      </c:catAx>
      <c:valAx>
        <c:axId val="17558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49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450-55B7-4766-BB83-682FEDB0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045-64C0-4231-8027-3C594880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5B8-5EA3-4CE4-B1DA-23E61BE1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A2C-105C-4C32-A45F-065957BB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0B7-1980-4AC0-8158-C67654C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1E1-4D85-4B62-8ECE-AA9188B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873-1506-4EAA-9F07-F6EA5D3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C26-48FF-4A47-A490-4D3425A2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EE0-1648-4FB5-A0EA-CB7E8C18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492-5DB9-4EDB-BE61-C056B57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A61-2E6D-4528-AE7F-181224C4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99E-69EA-4309-8805-104F57D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AA05B-85DB-404C-8E1A-15A91DE42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