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36597"/>
        <c:axId val="15736698"/>
      </c:barChart>
      <c:catAx>
        <c:axId val="73636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36698"/>
        <c:crosses val="autoZero"/>
        <c:auto val="1"/>
        <c:lblAlgn val="ctr"/>
        <c:lblOffset val="100"/>
        <c:noMultiLvlLbl val="0"/>
      </c:catAx>
      <c:valAx>
        <c:axId val="15736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36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774-3DC3-46DE-95D3-F665E207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B0F-A365-4951-9105-4B55198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705-B799-4A6A-B675-E33EDD6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B7E-4038-4966-8524-2F500B8E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BD2-2A14-40EA-BA0D-CE15F62E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1CE6-6031-4A46-8B79-252355E7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F70-E129-4618-8FA5-D307740F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9DE-821A-4683-B49F-DE71F94E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C0C-7CDE-4450-AB42-4BC5B58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3D4-48A2-4DD0-9378-0B43D8E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6C7-FD22-4258-B869-9054376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1C0-7BF3-4D79-BFFF-617C0A6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406AB-0C0D-49D5-B972-0BD0A0E2E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