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09873"/>
        <c:axId val="44071421"/>
      </c:barChart>
      <c:catAx>
        <c:axId val="43709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71421"/>
        <c:crosses val="autoZero"/>
        <c:auto val="1"/>
        <c:lblAlgn val="ctr"/>
        <c:lblOffset val="100"/>
        <c:noMultiLvlLbl val="0"/>
      </c:catAx>
      <c:valAx>
        <c:axId val="44071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09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742-DDB2-4D37-AC73-025B9518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2E1E-9B1B-474B-8F1D-CBB54D01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4FA-7FBA-4125-8353-E98F7F83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7B13-1205-43A0-8E5B-7CC7AFE5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A394-62ED-4147-860C-CD630B48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D4A2-469B-4836-9471-D2BE7925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65D7-A8F8-4245-9A5B-7E774052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A79-CA01-4725-AE2E-CF0526F6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204D-1513-4E48-8A88-02D05288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A1D-524F-4417-91F1-9F41BDB7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2A2-7A45-4FA2-8FE0-C89079A5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DEB-F05E-4A19-9274-2F2FFD9C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F4924-9CEF-40C8-BFA1-787C539320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