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76828"/>
        <c:axId val="91936170"/>
      </c:barChart>
      <c:catAx>
        <c:axId val="74176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36170"/>
        <c:crosses val="autoZero"/>
        <c:auto val="1"/>
        <c:lblAlgn val="ctr"/>
        <c:lblOffset val="100"/>
        <c:noMultiLvlLbl val="0"/>
      </c:catAx>
      <c:valAx>
        <c:axId val="91936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76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366-A493-4E04-B167-95A0E533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68A-490E-4865-9817-922609CA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7C7-C32F-48F0-95DE-FA214FE5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48A-A0ED-4350-8AD6-2D9384E7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FF5-AB12-4944-8B76-86F7BC40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8AE-AA0D-4B2C-B613-55B572BA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564-1EDF-4081-AC63-77A9977B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179-5CC9-45ED-8B93-D6F55525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296-BD2F-4CB8-83BD-88497F6C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A9E-62AD-4537-9815-257D98E6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4EC-5B62-49CE-AB36-2C87F10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D5D-DC27-4515-BDE9-310E7585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16E22-EE7E-44AA-8674-56714C6E08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