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797917"/>
        <c:axId val="81797475"/>
      </c:barChart>
      <c:catAx>
        <c:axId val="36797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97475"/>
        <c:crosses val="autoZero"/>
        <c:auto val="1"/>
        <c:lblAlgn val="ctr"/>
        <c:lblOffset val="100"/>
        <c:noMultiLvlLbl val="0"/>
      </c:catAx>
      <c:valAx>
        <c:axId val="81797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97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907-DB9D-4024-99E4-F252E868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0C5-4A94-4141-9CB2-0E053296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0E8-FC90-46E1-8359-2C60E273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6B0-3A07-41D8-A978-5AB2B992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C3B-B9A0-4039-A738-AB9A7BD0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F96-337C-4A65-AC34-3074EEA6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9449-F75E-4BDB-8D06-06301E1C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028E-0D3A-40DC-882A-CCE83347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6E4-5948-4366-9859-3C97A135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6A17-6254-4329-9DB1-9231F843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167-BC59-4B03-B50E-2466561B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392-A19B-4D1C-80A8-24EC48A0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D5F65-F141-43A7-BB89-88A5099DC9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