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6499"/>
        <c:axId val="15810961"/>
      </c:barChart>
      <c:catAx>
        <c:axId val="7076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0961"/>
        <c:crosses val="autoZero"/>
        <c:auto val="1"/>
        <c:lblAlgn val="ctr"/>
        <c:lblOffset val="100"/>
        <c:noMultiLvlLbl val="0"/>
      </c:catAx>
      <c:valAx>
        <c:axId val="15810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D3B-75EF-4E41-867E-3D4D1585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BC7-141D-46CB-B31B-94145A3D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E58-4689-4E86-ABE6-47B3D657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758-C00D-4115-A5B2-23BB07CE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F80-A5E7-4E32-B05A-28A759B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C6A-A5E1-4845-BF71-7EA0400D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9C9-532F-4ACE-A44C-0A09046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8F6-E242-4A50-9C83-7E2EEAA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A0D-8548-461F-8CD9-1639EABA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4F2-BA4A-4F9E-9091-DB5F2BBB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8D-3EEB-423F-BD6A-D23487D6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FB8-2F1F-4047-BC0B-2A4A6B5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1F120-C4CD-479D-8577-EB27D5126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