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21569"/>
        <c:axId val="90237577"/>
      </c:barChart>
      <c:catAx>
        <c:axId val="82321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37577"/>
        <c:crosses val="autoZero"/>
        <c:auto val="1"/>
        <c:lblAlgn val="ctr"/>
        <c:lblOffset val="100"/>
        <c:noMultiLvlLbl val="0"/>
      </c:catAx>
      <c:valAx>
        <c:axId val="90237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21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ADD-F52E-4947-8858-90AE2886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32D-E0CC-4741-A316-BEF14450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452-7C98-483C-A2BB-473BC54A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FD4-37DA-47B0-90AF-79A9D763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8F3-98A7-418D-8B1F-AD878B4C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878-086A-49D7-9228-BEE1D01B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A74-520E-4C99-9BBF-44E0FA38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47A-4030-4D23-8D3E-A0019A16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EED-57B5-4606-93EB-85081106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9B5-447A-4E8F-A66C-8AC87E26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187-8242-4F56-B9BB-5A2E7AA0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945-DB49-42B7-A226-D96483D3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8ADCE-5028-48F4-B112-C6FAEE6A09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