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20907"/>
        <c:axId val="43150604"/>
      </c:barChart>
      <c:catAx>
        <c:axId val="694209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50604"/>
        <c:crosses val="autoZero"/>
        <c:auto val="1"/>
        <c:lblAlgn val="ctr"/>
        <c:lblOffset val="100"/>
        <c:noMultiLvlLbl val="0"/>
      </c:catAx>
      <c:valAx>
        <c:axId val="431506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209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387-193E-4C22-898E-92195AB6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7A2E-EC14-480F-B853-C9B1FBF3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E8B9-EC79-47A6-86CB-4728B0D5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3061-A2BD-4A7C-AA38-E9EAF4EA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5572-E483-4169-88E9-CEC5D1DE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A6EA-2542-4701-BC94-E6C58732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12DA-1AC3-42B0-8CFA-B417F59E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7109-7079-49CF-9ECB-BF4434D4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3961-317E-40A6-9E43-4D851551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508-470E-40D8-AFAE-F6FCAC56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452-6E7F-4497-86DE-DD17CF7C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7C4-5A0B-4695-B7FD-3D7C0192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88C35-2A91-4ECD-B79C-E078924C41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