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7AE4F99-BB66-4B9E-B1CF-E4589A6794BC}"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1A47166-9640-4795-90CF-FFC7DE74545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07EC16E-9F95-47AC-ACF6-AA567E92C79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B339EC3-5D87-423C-9C5C-C85394FF58C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61A4552-2D8C-4B20-B6A0-3F69321E9C4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BC41C82-CE7A-4D5A-A4B8-37E5832CBCE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84C3E3C-D175-4CFB-8DC2-90559266B58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BD301C7-F141-4E72-A9D1-8DB3B7D60CE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3EA91B7-B3C8-4BF6-9AD7-A5AA66494B5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B7B8114-D4B8-4088-8B50-7DA7A1A0B3F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85F7E21-B8BD-4FCA-A5BE-523F63AA4AD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69598ED-59AD-49C8-A3E6-DD5B4BDA7E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81C688-3C86-4419-98CC-9185CF5F2B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BEF6B0B-017A-40DE-A304-1A440F3060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0582B09-AC44-4980-ABEA-14F0AA79DB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47207FE-13AC-4D86-923F-088C71A6C6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7381D44-405C-430B-BF8A-C284267801A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351D470-2CCB-4D77-985B-4F5DB75A927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AF330E4-ED3D-4641-8FC5-B0951F704C8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6168E61-0555-4F51-8ED4-B3C2A91AE2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5CFA192-1D68-4260-9667-EA362A8E1C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6032E00-E1D6-416B-94FA-186A214760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C8685DB-B451-4BD8-AAB6-F4CA5978DA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DE3DC60-67E8-4D08-AFB8-C7E507260C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07024AB-9ADE-4ADB-B53B-530641FE95B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61FAF82-C012-4002-9E13-3D7DCD3CA37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F288B87-D565-41E9-B283-40141F017F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E73955D-D220-4893-B543-67B47752FD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FDD726-917E-45FA-813B-6D6D8EA631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86819E-B049-413B-AE62-DA7F2F71F9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78C6AF-F7EB-49BF-9ABA-AF7FE092A8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8E18F9-B696-4FB6-8AF6-FFAC3C2F62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69C181-F35B-44D9-9A20-6F371EE405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E2D432-D922-4CD7-9140-14AB3217E1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B9CC13-B14F-4DB9-ADC0-06DE640248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01AE2-6734-4CC9-B72D-A52430FCB02D}"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A395E-A2CF-4FF2-A4D3-4CAB4DAA610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9A2D99D8-80E1-40AC-8BFC-5C7FEF9D90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E0AFAE6-5047-4600-BC47-6B99DDA816FD}"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1243CC9-98D6-455E-8A8E-9B9B2E8DC04A}"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DDB033D-C6B1-4B39-9A0B-53720F1A1DB3}"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1E4D625-3DC1-4637-B604-57DC94C7F3DE}"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B757D0F-942A-4864-B2E4-5CB0B78A5582}"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6EE02FB-7A6D-4B9D-841A-10E422601FE8}"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B5BE3B1-F09A-40F8-978D-E4A2B1366C30}"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F328298-A3F0-45A2-82A5-8E9A952CC8CC}"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3ECAA59-D418-402F-8AB3-1B629E53ED01}"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B81D969-DD33-421F-93EC-3127FC2BE904}"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05C85C2-29E0-4336-B52D-B0B9DD7B7219}"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F614ADA-F232-4C5E-85DE-3CC9B1091033}"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1ECA301-291B-4310-A00E-53E61793F2D0}"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778D95E-458B-4C6A-9B83-2FC946146024}"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C2B26CB-E03A-4529-9FFD-81F19D96B5CB}"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6C03112-AC33-4F35-B170-236DE2999CBF}"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6B2E2DF-B5EF-4412-95ED-90B04F384F5F}"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C40F7A52-2CE9-4D5C-8A76-99A9B35A795F}"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77A5D40C-1442-4A49-A2FB-70C78D534E04}"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2B18B52-6C14-41C9-978A-2EFE3DBE3CC9}"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6D96648-015A-4396-B864-3204A7C85B5B}"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CB6C2E7-CD66-4030-BE6B-D7371CFDE258}"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CFA0BD6-04AC-4AF1-A7EE-CDA521C539E4}"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328C5A1-45ED-4A7A-AD1C-90224C1A071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DB97114-51B2-48CB-942A-5DA371565BA6}"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C57F8BD-0E07-40E4-8DFF-0B3FE05B69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26B4E93-7150-4728-9B57-F6B9EFB2658B}"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DFE573A2-ECB1-46F7-9D7D-B04151C74D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E87BDC5-B321-44EE-8B8C-880F0BE8CA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4A7149A-597C-4C3C-8BC6-8D4A5D9911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FB7B12D-3EE6-4CFB-9F32-3E4746B158B2}"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E18A44E-9F75-444E-B0B2-15CE186C85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72ECA55-C580-4B44-8B69-338A45192A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C441848-F5A4-4E29-A15E-1C8488ECDB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E4F03F0-8232-475E-A2E0-EC33FFD65669}"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96641E7-CF41-48EF-B906-385D7CDAE4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5496628-E1BC-4064-A853-2B1D4936E7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9E25D87-BB7D-4EAD-9219-A545F2002F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7F86687-E84B-4041-90CC-C3F36593FD9B}"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5640F7F-1E85-4690-9979-81E7C06232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DF7AFF8-2FA1-4038-83BE-75A9A905CB8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CB95FAB-930D-42FF-9CAE-CE37B988D3AB}"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F5BAFCA-0D61-4288-B348-B8F85B05E8D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DD82EB2-48DE-40C3-B6D3-B8EA7576A70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E4884AD-ED31-49B1-9BBC-7179CBC73AB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FD1E0AD-80DA-4FC7-A24B-8FDBCA47EE9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7E0C71B-469D-48FB-B440-312E3ACA026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9FFD4BA-84AA-4527-861A-864B84F19DE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4CD2A80-9EC5-41B4-A787-D690308D2A0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01D98F8-B19B-4FE1-BBFD-3058A7DC087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F379AA4-29DC-42FF-A470-ABE4D91531E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40A13E1-FA30-4430-88EC-607158BCD68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19C74B2-DECD-4F6F-AFC7-E10DA5CFDFA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4B19875-32A4-4638-BF21-ADCDC288BEC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A3C7DE9-0588-4ABD-8603-8A8DBB04CB3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FF7E5EC-3271-4314-9EB0-EB47D58DE52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2F9BCAD-2CB8-4A56-B9DD-60A1F97F0F6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AAB5286-1B3F-4C73-9520-E97676C05D0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1323B41-C70B-4AE1-9784-5FA1A92179A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CFC31E0-7C0E-47AF-8E14-0CD0BC5AE0DF}"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DA17F32-10BC-4951-B4B2-7F493B20ADF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3658610-3655-481B-BA6B-DE2514C4E99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253ECA5-61A4-4CE3-8292-26EDE35A3A84}"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1C37FB4-8A7E-4CD5-AB88-F7E3FA4537AC}"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2B658A0-312E-4FC8-8769-D0216F9D9CC2}"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61935AE-83AA-48CD-ADE4-8A5479C43DE5}"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2FD0B6C-8D29-4088-BB74-8619767E0FE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20764FF-448D-4B84-99DE-E308B4CE7EA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D8D0C59-D1DC-48B7-A575-83762342D1EC}"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804FE3E-4A23-43F0-A32C-78527269D87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36737E1-606E-4594-BCEA-53801D541A54}"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4648C6A-1B67-42AF-B39F-6EFA1EF9E2A5}"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22DD011-063F-49F3-9E12-EDC9DDC651E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8588DB1-02FC-4935-819C-020E7A3ECA01}"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35C3739-1BB8-4C0F-8CBF-ECEC1F76F472}"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CC1F894-6D0B-4971-A5F1-31A575E60335}"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CA89B51-D230-4894-BABC-9C70C89F8AB7}"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AAC65F6-D5F4-496F-A522-24163DB270C6}"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84E1FF7-85B2-438A-B70E-91F87039586A}"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F17582F-F53A-439F-8221-47BB7D2A2477}"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47050CB-88AE-4530-A445-BD1861B4066E}"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61622BA-69D3-4823-A992-82FB11EC5FF8}"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AA8924C-AD7C-4C9D-93DF-D1CD43ED4970}"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080EC36-2FC0-4D6E-BC35-C6826BFB9B6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A744B74-2A4F-4E78-A15F-85270A97E845}"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41002AA-361C-444E-93C1-A0AC28E95C57}"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FC9589E-1C52-42BE-80F7-94DAE1709F33}"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92A5064-5DC9-4DD8-BE43-2154976DFFEF}"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FD6FE59-F1EA-48F1-941D-CF5D654DB496}"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F42D537-4F21-410A-87CD-B1743BB4F14F}"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E3DD4F5-BD9E-41EB-AFE2-224E3FD0CE1B}"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1B46F3D-EC97-4F5A-865E-DFA4DB68B4D7}"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6501F19-DB07-4ACC-ABF0-14CD9229E48B}"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41B5A77-998A-44D9-B2BE-D0A2FA65D2B0}"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FE60834-338B-4993-8DFA-B03CDEBFCD50}"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F6DAFA8-5CD9-47AD-B4D2-BF2E6F1E77D8}"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AB80C038-871D-4FC2-82DE-3B19C5A59F1A}"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E46C127-71CA-4793-AAB2-9158720EA5A1}"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2F371B5-DE08-4829-BA91-2C31B742DDD2}"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8FC5255-0C2C-419C-AE00-534ECF956396}"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09347A8-A424-4830-B8DB-CB6556409AC1}"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9219645-6D5E-4639-83C6-E838D6C58858}"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FCFB2F9-088E-45B4-ABAA-1BB4783B0923}"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F3696D4-5840-49B1-BF15-044E2B8F81BE}"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1BF538A-83F0-4902-9E7D-14D341599CE2}"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90394A6-3B1D-45E1-B08C-9A411B163FE2}"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6B6B6B9-9951-4713-A71E-1D5E3713BB13}"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0DCF51C-AD72-4A2D-8999-8EEEA006B1D8}"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15E31672-D248-40DA-BDB5-0E3A6E7F3D5B}"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47593C8-2461-4F35-BBD9-41FB73C12252}"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D6ACFC3-86CE-4632-98E1-0B5E1553ADB1}"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F798DB8-866A-4B55-8578-6D86FDA06A59}"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C2A1526-46B8-4F41-863C-EB11D6AE6EAC}"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0BCDE11-42C7-4A00-A85F-EAFA94222237}"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1C0A5CF-AD88-4C5C-BAF7-0DAD5441E52E}"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4FC2B5A-8677-421C-93C5-96AF13921215}"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CFC4413-E207-4888-B863-88B03AD91F6D}"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A12054D-BDB4-4682-AAEE-E861A19CA1EF}"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7E5C70F-8918-4F39-998E-00C6D0293992}"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758A732-CC6E-4756-8298-689F3342F1C6}"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