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58C58D9-3E7D-4998-B2BE-9C2D77926768}"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615E737-AB59-46AE-A5BA-70FEC07B480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F9A5530-D350-4EA0-9F86-4B297E8E75A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AB09B19-716E-4963-800A-E733EAC96E7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13798A9-3512-493F-A21E-88C01D6BB1C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6F025FA-2EA8-43D7-A04F-BD470C4ACA2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3E13EE1-D092-4968-8017-4138F5562DC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698B350-6F72-440D-B872-EB6F76E91BA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2B4F6A3-DCAD-4510-81CD-68AF8027534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74F24E2-01EB-4512-BD67-FC8C140C5D3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8E3E2AF-7A21-4BE5-9E6D-9EC7CCA1D20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A3429E1-31AD-4C92-BC79-3072A5FA0A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4FF1A2-06C4-4233-B714-A68D6567B6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9E73087-9EF8-4EB1-8272-E392EB3EF4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561BB09-6981-472A-889E-A0910428F6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6F74B1F-C64C-499A-B565-A2D6A6C5E01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D5C1FF2-F164-446F-B225-AB62E8512E5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BEBD34B-2509-45B5-8C7D-AAD359E0956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7C22D05-5B67-4797-B394-A394FC76060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A3A81D9-B67F-4137-BC26-EF64C749837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8877DBA-8A7E-413B-B317-70ACB875B07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25AD9D5-3268-42D6-BBE0-B8E8994DD8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082047-F21E-4CFC-9E2E-7589144C5E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6040890-ED8F-4AA7-B6EF-993A710AE8A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03FE6C1-A72F-4DB2-9768-79B46F868A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95D9E7F-0CB5-44B9-A8A5-EF962DD7BF8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013FF9F-4AA6-482B-8979-439CFC8986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731FD4F-999B-4E02-A270-50CD7152CD9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DC363E-B82D-43D6-BAE8-0D24B449C4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F2AFA6-B9F1-489C-8108-AD55610D46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AE452A-2D75-43E1-850E-E3AC476C3A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2F8D48-5C22-4D45-899B-A50DBD8F83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1A63C0-04EE-4DDB-8DC8-300A2F6BC7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DE6A06-F2FA-4438-9360-1B62039C67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CA7838-F414-4A31-B9F0-8C9A7C87B3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D5A37-B8A7-4DF8-BBA8-3633D0F7281A}"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C0BAF-38E9-4F61-A78C-B7B1D481D40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BC4FDFCC-9297-4FBD-9F58-F70393692F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19C3944-1DD5-4AF9-94F2-A06C5ED5094D}"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B0D54E9-1A79-43B7-93D2-4E29E17CEE7D}"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E4FC641-B2C5-4A24-B169-872941210DF3}"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96A5CE2-5459-4DFB-B9CD-39AAE3AC9B4C}"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90F5DFD-F919-4AB3-BF66-9E959F861E3C}"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1665A6C-5EC7-4DD9-A381-E0E990A0A326}"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8091456-64A9-4B82-8385-417E317129E8}"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4FE6796-2990-4D03-BD41-5863BFB2C4B2}"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BF084BC-E222-4F57-BA2A-BD329B9857D6}"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D771370-E623-427A-B0F3-85F38C51C221}"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E1342F7-B626-47F9-9762-1DEA50128B30}"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80D2545-8443-4FF0-BD0D-9FBF1849F2E9}"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C3A59AF-FC52-4A1F-922D-1DD1F3BCC45C}"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5ED8699-A825-4EED-A637-08EA1A924045}"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CDA4F94-3593-49DF-BBA7-5513B28AA901}"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B1BEB29-8788-4649-BCBD-55FBAFE39A0E}"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D9588C9-023B-431F-A9D3-406C51A16D1F}"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086B0FE7-B1A6-48E0-B0B8-AB7382609B57}"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01D26F6A-CEAA-41B8-BEDD-676A5A92AF78}"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0560AC3-7CA5-4634-B2AA-B52FA25CFE8E}"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7E10854-643B-4240-9797-490D57E1FB2A}"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2CEC3CA-537C-405E-A06E-2147AEABF162}"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1EF6FB3-B2AA-4BF5-9F1E-660650151502}"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656812F-244A-434E-BEEF-385E25B99D7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4AA2FED-016F-4856-A736-61C05471B7C8}"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A25FCCB-145A-4B66-8B5B-B4DD65EDA3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9709946-8CB7-4D12-96B1-4B07D9BA101A}"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6E8A3A90-10BF-4993-9848-121EEE9876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16540F6-32F3-4FBD-9D31-A0220D8A4C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283B2A5-8230-4CB5-BDFB-258235620F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62ED9A8-5658-427E-AC1F-25322EB1DEAE}"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5D84097-E989-4CAE-A4FC-75CF4063C2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A80CFA0-3071-43F7-BC1E-F48A68EA9E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5D96B82-1D4D-418A-B362-5DAF7AA6D6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A21DC0C-6AEA-46D4-94B6-C056C7B5D468}"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97D26D7-10C3-4EDD-AB7A-F94D200E9E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1B93A93-ACB1-4799-AFD0-6F2FE7958B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30A9E63-A386-4D0D-8261-BD2125FDD4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FD70A10-3054-4E26-98BA-1252FD26F4C7}"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D745360-C34F-48D4-B308-39013A53A87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847F9E2-3B23-43A9-AE36-E32546C58F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BEC94BC-CEBD-419C-83B8-B7FE3692AA87}"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3265A37-B872-448C-9D1A-10D169052B3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66B3F1F-91CD-4E80-8F65-CEEB751153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2DE1690-7A08-4920-A665-B40EE7E7100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1319D7A-09B0-40B6-B883-BB68E1483BC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AF051D4-890F-4002-9E31-DF790C400A6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9C5E80B-E0AC-499B-91F1-01B791EB4D6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BE0552F-B619-4C06-9AC4-07D13F7333F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697A45B-E4DE-467B-B1DB-0FC04435DB4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3C4F09F-E4D0-4E03-ACED-17DB2E5C301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F26A8E8-86B5-4C2D-A88A-1BFFE429A8D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1662F0E-6412-4375-AB8B-A0E2ACBA873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2B72B5E-998D-4D2B-A111-41500F78DBC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F66F6C4-8E2C-4771-B077-F56E367D2C89}"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4383AAC-A7D3-4A2D-953F-9E88849E649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365EFCD-6B99-4FCD-8BE2-0745A5870F2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C758ABE-A22B-4AB5-B3D0-C81CA47A54E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55D4217-C180-4630-94AB-4D6E18276BE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AB711CB-EE89-4E6F-9144-6880D828B8E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51F02F3-D8CD-48BD-8A87-B3DC8C880D0E}"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48664A4-12C0-4BD4-ABB6-8533377BAF3A}"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75E5B17-62F4-48B9-B679-A8E2D4D87048}"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97FB01D-5A49-4BD4-9026-0CB7D579698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F20456F-6A67-4400-92D8-7B7619C0307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F881762-9D19-4EA2-A854-D894A4C76EE0}"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64A0845-A1BD-4F5E-9E93-1E1B0030A3A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837A38D-E52D-4EB9-AC87-C5EF40A6C406}"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819D3F0-0A55-4154-9C4B-2B17B46C30A7}"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146E875-A687-4569-9E92-60E3CB3A2F41}"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566B8B4-D61F-401A-A51D-D33FBACC5F3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5A287F3-00BA-47D0-8ADA-062803E5663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D484418-EC63-4EF0-931E-6787107559A9}"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9F96DCE-0B65-44C4-933B-C892B3BCBEC8}"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3E981F1-C98B-445E-9540-3DD96885373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4950B00-54AD-4817-88D3-AF782873B3EE}"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3F203AF-9285-4644-9CDC-87E0DFCB338B}"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66D7B1B-6826-49E4-8909-F92356C9BDDD}"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A914D12-3C36-4EB5-91EF-467E555A9180}"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44654DC-1561-42D9-8066-F6E8F424090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E0EA8B8-63C5-41D7-9652-1C19C557E8FA}"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B47D816-C91A-4F1B-AC84-A0B05A654F19}"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242F255-526E-4477-B3DA-E9DC0548FC2A}"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E80E6B0-E7C1-4F14-8943-EBEC3AB0F93C}"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448E267-8F1D-48DD-A3A7-87D5F68F773E}"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76F386D-6D8E-43B3-A89C-2CF9286FAB0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EA43E86-EC4C-4275-BE18-5575EB389A41}"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A96FEA8-6292-4596-9EC3-4E3E3200F730}"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38D4E10-FF09-4A45-BB75-656A44A13328}"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5F38419-1D5A-4B33-81B2-CA9D835F5EA2}"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04B9AF9-36A5-40A1-B995-60D9B504162B}"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F384D60-0CAA-4FE5-87A5-76FBCB2B60CE}"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847D67F-A10D-4B0B-A422-E25C764DD22E}"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B79C1AC-5E22-4182-9912-9C30C6BE0485}"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05F2F30-4E95-4ECD-8D18-DB3996868C6E}"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FEDE7FF-FC82-4D42-B223-200B4C849F29}"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159E089D-E680-4312-915C-C83D27A8FDF0}"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3F2BA31-6DD7-419F-9B09-608B9DAEBD41}"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DD611DC-BD32-4776-8384-A25A8D39BE1F}"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39811C0-342C-4AE2-9332-816B180820FC}"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25C46EC-07D1-46AA-BA89-D8CA46564F25}"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74D1B1E-E8AA-4E19-982A-92316DB6F659}"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23AD0FF-8FF4-4BC3-8ACB-BF4B1B264AD2}"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B9D8B87-13A3-4E2F-9E59-27975E496CC2}"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D5FD582-5CB1-4BB7-9B7D-0169E3F4DF90}"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0B0E1A4-6D7C-4A65-A7F8-2EF26464AA5A}"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19A85A8-0125-41E1-92BE-9EFE9600DB80}"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1DD1E8D-BFC0-4FB9-8570-7D2EDA934ACB}"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E1357C98-6585-430D-AB3D-E8E09E2924AC}"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D7E55A6-3E0F-4BD5-B25C-47D6EFA57CD0}"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2F253FB-B42E-415A-8917-945BBB7001AC}"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062F4A9-FD0E-461C-A61A-6C039A020860}"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D1A50BC-6CFE-48A5-A103-C00A064A7152}"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3AAE1BC-49C1-4D4B-B198-FDF4F28334AF}"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FA1B890-6CB4-471F-BDBE-DBB9041FD27B}"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D890A84-CC17-4E00-B824-C91AFFD872B0}"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07998DD-0FB0-45EE-96CC-EF16FBFE67E1}"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3A06E39-3D5B-443F-93CD-F308787A2899}"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4A9E69B-19DA-41FE-B5A6-E22B99767241}"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C7A3EF8-C20F-44C3-A134-327CA887A525}"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